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B36-427F-4239-9371-8D802073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E4C-26D2-4FC8-8FAB-D93B1DE4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3AB-15A3-4923-B700-2DA61E05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A67-931E-4411-A769-AA3263F5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285B-93FC-419D-B586-A3ABDAFD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4117-92CA-4B73-A750-60B3B08C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75EA-5DB7-4FBD-B526-90051430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7D73-072A-4142-9CF4-DF6C893E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56B9-6A1E-4880-BB5E-D2835735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08A0-C1CB-4CE4-B90E-B5B1D314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D26B-EF02-43CE-9830-8B158F44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164-EF40-42BE-A5F4-06805A89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C702-3B82-4F6C-9B33-7E6605A6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8301-509A-430D-8AAB-D5B654A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3122-FA2D-4FD7-BC13-60D1BCFD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F270-4A62-4F8B-AC38-38FD3130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1B76-C5C9-4DDA-91D9-DE1BCC2C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ADEE2-3D69-4425-B3FF-A3C2DE53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DB64-BAA2-4CAF-8DEE-459AE0FD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9BF8-1B8C-4348-9704-E8532426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6DDE-40A6-4730-9D04-393E7017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B4406-C80B-4AE5-AB5F-0BA0A335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4EE-4CA4-4582-B47C-DD3F9DF7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5805-B61B-4629-913F-674ABF92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BD2A-F7DE-43E8-9499-AEAFF033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D39D-2A99-4DE6-9933-EDC94861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DB9F-DB3C-4B47-93EC-525C0FCF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FEBFA-5258-424D-9870-AAD3E418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89ED-5D70-4CB6-AB43-2FE0471B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1F940-4FB6-4314-9875-8956126F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3EBE-B4CB-4FE4-ABCA-831D65F6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9FE03-F028-4E51-848D-C5DBBFEF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43E99-DF29-4468-B0F2-58521F25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1A30-A7C8-482C-A47E-C4BC31C1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B758-7053-4207-B41B-36CAFE02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0563A-5323-4FE5-8B13-66D62BE6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EB3B-618F-4071-A864-031A8FEC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9BD3-32E6-4D87-A6F0-80CB1404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4E342-FA9C-4E8B-9A26-EC751A78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8060F-0256-44F5-A5AE-D13A981D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184A0-6E40-49B2-8016-0942F1C3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BD981-9B6D-459B-810C-1D8F6854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3A83-CA9D-44E2-AC5F-7C0ED07F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4D5C5-39E6-4DFE-BCB3-3C323DEA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E9F-EA5B-4C39-8CE4-38220800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ADC4C-F38C-4D30-B1D7-AEE11022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F4E04-3486-4722-A304-44BE0106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973E4-F4DE-49BB-BF6F-4B8DF63D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4E462-559B-4B8F-88B6-00169252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C31A2-D198-45AB-9C94-7563A3F4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40533-6B40-4E51-9851-3E6F730B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7CC4-3AEB-4E55-BA12-0502E543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01BE5-B272-4C2C-91A4-B14D571B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056D-74E8-4BEA-A9C3-A5157461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1315C-F6BD-49DD-8154-9B8E49BC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32A-6231-45F6-9C7E-AD01AC51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AE984-0989-401B-A3A5-B1F3CD1C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78AB5-2931-465B-AC1B-F6BCE9CA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951E-01DD-4C4A-89A2-92D4660B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3D9C2-1EAE-453B-AD0F-8A76B828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78A76-F6D6-4C55-9D70-9C266BE4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6FD36-648A-4D76-80D4-BC2CE066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26AE6-6C07-4BF5-9C3D-7752DB8C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3D6B8-00BF-4A72-9EB8-671CA11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C0D3E-6774-4253-AF88-779595E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EB980-B4B1-4B52-AE4B-C2BA9B60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840-F5EB-4C4F-A697-B4490E5F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A12C7-F092-4E1C-8235-267F6C34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A648B-5F1C-427E-B46E-B42AF58E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0D614-5EAB-4171-A774-F5A4158D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75833-9D49-4212-8005-6C1C3AED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B73DF-0A1C-41B2-B255-328A2253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B27FC-A67E-47D4-8379-9B17560D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2A099-EB55-49CE-9EA2-F07C7928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9AF9F-CCD8-46E1-B75A-C76948D9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8F178-93CB-4D30-81FB-EED7D5F5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7B1DC-FEC9-4129-A83D-96CF9EB5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AD0-D07C-430B-81CB-5F2AF06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66105-EF49-4C70-9B15-5342D24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FDE1D-D173-40DD-A19F-24801603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77A02-7F9C-423B-895A-42F05D12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ED7C3-492F-4835-B8B8-977B681E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8FF2C-B33E-4495-A3B7-4A6ED90C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88599-1D82-4C9D-8C24-A310528F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0B2F8-011B-4B98-A7F6-99E2BBD7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7E8EB-3091-4C81-98A9-B4BD7E66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29F74-49E9-4AF2-AF54-275BA0F1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B6BD-2677-40F5-9ABB-1B6B2839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EB1D-A46D-4554-9466-C5A50751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64D7B-E244-431D-82EB-CDF36145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2AD09-6260-43DD-9121-92F60708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99940-552B-428F-9E5C-BEDB06E1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57986-CD21-486A-A5BD-89C2F40F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DFCBD-8781-4062-9133-6674A4D9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9C799-2E9D-439C-9D77-650D8AA5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B52A8-CB31-4F8A-A39D-1BD4318A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FCD7-9DF2-42BE-92A9-66778E46CC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810D-4B31-4100-BA13-4D051186C3E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E360-9BC3-467B-B38A-9568C202EB5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5F7C-9D84-4B4C-AD77-2432E5DE3DB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7A72-6335-43F9-B856-C6CA885A75A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509B-E7FB-403A-8250-7BA7535DA39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49E4-BAF8-4694-B658-E7D7EA59FE1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3497-8ECB-4CAE-ADB8-292C3387DBB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rs. Henry drove 26 miles from her house to the farm to pick vegetables.  She put 4 pumpkins and 10 potatoes in the cart.  Then she added 7 tomatoes and 6 peppers.  After putting 2 watermelons in the cart, she loaded everything in her car and drove straight hom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at was the total number of miles that Mrs. Henry drov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42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f the heaviest pumpkin weighed 4 pounds and the lightest pumpkin weighed 2 pounds, what would be a reasonable total weight for the pumpkins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she sold the 7 tomatoes to her neighbor for 5 cents each, how much did her neighbor have to pay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Mrs. Henry cut each watermelon into 12 equal slices to serve to her garden club, how many people could she serv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at was the total number of fruits and vegetables Mrs. Henry placed in the car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1:03:23Z</dcterms:created>
  <dc:creator>127lynchk</dc:creator>
  <dc:description/>
  <dc:language>en-US</dc:language>
  <cp:lastModifiedBy>127partidak</cp:lastModifiedBy>
  <dcterms:modified xsi:type="dcterms:W3CDTF">2011-10-07T20:45:53Z</dcterms:modified>
  <cp:revision>7</cp:revision>
  <dc:subject/>
  <dc:title>Monday</dc:title>
</cp:coreProperties>
</file>